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15334-8ADA-4C00-B587-B4785E271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0A57-472D-4F1D-8E0C-91CAE0B48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C6287-B0B1-4047-A25D-1B5FB293C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4255-1FB9-4279-8CF3-AF261BC6B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F9E61-B9BB-4E58-95CA-E959A641E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2448C-7268-4457-8829-D17D7CC75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CC41-9C03-4E34-9EB0-D8AB1D964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2BBB-9B60-4630-A667-2ED05D14F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16A0A-3B33-4080-BA4F-E615E87DE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9E04-6196-4967-A29E-BAEFEDC56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66657-3374-4D92-B044-C8754A97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C2C-1C83-4EAC-B742-B9C45BCA7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26F-3850-45D2-B94C-265F76E60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01E34-2A2F-4312-9BB3-8017ED155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7B22B-B607-4C08-BB52-D52CB3C96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5DF2-4B6C-431A-A0B2-17A9AC7F7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F610F-A3D0-4E23-B7E1-2A3816443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7C1-8129-41C8-A79A-10FBFC779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BB1D-AB86-409B-9227-9F6A2EF8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E883-0D66-4801-837A-11DCF7BD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187D-6A66-4493-AD1C-86B33667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F201-C3E9-4F63-B04B-E12FAE66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5ADE-6ACC-474A-A2B4-1850C40D8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283-6FC9-41D1-B1F4-72ADD35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26A1A-A50C-411F-B48E-3B32941FBA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E8D8-BB83-4FA0-AC34-35A6ADF43EAD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volcano.si.edu/gvp/world" TargetMode="External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bout Volcano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orers Club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ay Jacks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 opening in the earth’s outer layer or crust from which melted rock, called lava, and gases erup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ruptions often form a cone or mount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ousands of active, inactive, and extinct volcanoes in the wor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bout 1,500 active volcanoes have erupted in the last 10,000 yea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ld’s tallest volcanic mountain is Mauna Loa, Hawaii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world’s largest erup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llowst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2 million years ag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most destructive modern eru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1815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Tambora,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re than 90,000 casualti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V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lcanic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xplosivity </a:t>
            </a: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d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I measures magnitude of explosive volcanic erupti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cale of 0-8 with 8 being the most powerful and 0 being the least powerfu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nsiders volume of pyroclastic material, the amount of ash, height of eruption, and duration of explo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EI Comparis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Volcano Fact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ost powerful modern eruption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Tambora, Indonesia in 1815 (VEI=7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orini, Greece in 1628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rakatau, Indonesia in 1883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anta Maria, Guatemala in 1902 (VEI=6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unt St. Helens, U.S in 1980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Vesuvius, Italy in 79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inatubo, Philippines in 1991 (VEI=5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es of the World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Smithsonian Institutio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en-US" sz="3200" spc="-1" strike="noStrike" u="sng">
                <a:solidFill>
                  <a:srgbClr val="a3c145"/>
                </a:solidFill>
                <a:uFillTx/>
                <a:latin typeface="Tahoma"/>
                <a:hlinkClick r:id="rId1"/>
              </a:rPr>
              <a:t>http://www.volcano.si.edu/gvp/world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es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June 24, 2003, http://vulcan.wr.usgs.gov/Volcanoes/framework.html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Sourc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Volcano World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niversity of North Dakota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http://volcano.und.nodak.edu/vw.html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oto Glossary of Volcano Terms,” </a:t>
            </a: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U.S. Geological Survey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September 30, 1999, http://volcanoes.usgs.gov/Products/Pglossary/ (accessed April 23, 2006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4T20:26:44Z</dcterms:created>
  <dc:creator>Ollie Rivers</dc:creator>
  <dc:description/>
  <dc:language>en-US</dc:language>
  <cp:lastModifiedBy>Daniel O'Mahoney-Schwartz</cp:lastModifiedBy>
  <dcterms:modified xsi:type="dcterms:W3CDTF">2005-02-04T21:39:24Z</dcterms:modified>
  <cp:revision>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817919282</vt:r8>
  </property>
  <property fmtid="{D5CDD505-2E9C-101B-9397-08002B2CF9AE}" pid="3" name="_AuthorEmail">
    <vt:lpwstr>orivers@earthlink.net</vt:lpwstr>
  </property>
  <property fmtid="{D5CDD505-2E9C-101B-9397-08002B2CF9AE}" pid="4" name="_AuthorEmailDisplayName">
    <vt:lpwstr>Ollie Rivers</vt:lpwstr>
  </property>
  <property fmtid="{D5CDD505-2E9C-101B-9397-08002B2CF9AE}" pid="5" name="_EmailSubject">
    <vt:lpwstr>LWC copyedit/review L7P12 rest of files</vt:lpwstr>
  </property>
</Properties>
</file>